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65AA-264B-4D9D-9F5B-5B68904A1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1DCD-7720-4DC5-BE8B-EC0C3A63C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9DB3-62A9-4F3A-B01A-848A28108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5B08-9093-409A-895E-4DE5C2A16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56DDB-3227-4AC4-9EC6-06F5EEAB0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D7EAB-F177-48C3-9EFD-D680E904A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E4938-5C6D-4F9E-B4F3-9A9CAFD16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94C25-D0B7-4C83-A614-78E242052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78AE7-E6CB-4034-8ABD-531CBCA48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D17BE-A0C2-4AE2-8E89-ADB649BA9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0F8E0-D638-4CE0-BDD1-04F9BE75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A719-1A33-4BA2-8B28-D82DBE12D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F084D-5497-48E5-9E86-A5B6C76E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89B67-6617-4081-812E-C4D07759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B2493-50F1-4F12-93EB-01F906973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91C2D-FB9A-40E6-A8F4-96F755060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5D13A-015F-40B7-B007-765B97275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0C55-1A15-46B7-A4F5-9E33AEF00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DA6F-0B63-4906-8B69-248A72A44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619C-1CA8-456C-9C9E-032E4B41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0942-54C5-4CE7-849E-8C0FB11D1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0F72-A7F0-4EA2-87C0-A4A02532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1D27-8311-42EB-ADFF-9EF23546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D95A-95D7-478F-B26A-92E6C400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96399-6A10-464F-B6A0-593DEAFEDDB1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E82E1-7E78-406E-9360-82BFC6C22F8B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buscon.rae.es/draeI/SrvltObtenerHtml?origen=RAE&amp;LEMA=copiar&amp;SUPIND=0&amp;CAREXT=10000&amp;NEDIC=No#0_1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IBROS ORGANIZACIONAL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eaeaea"/>
                </a:solidFill>
                <a:latin typeface="Tahoma"/>
              </a:rPr>
              <a:t>FORMALIDADES</a:t>
            </a:r>
            <a:br>
              <a:rPr sz="4400"/>
            </a:br>
            <a:r>
              <a:rPr b="1" lang="es-AR" sz="4400" spc="-1" strike="noStrike">
                <a:solidFill>
                  <a:srgbClr val="eaeaea"/>
                </a:solidFill>
                <a:latin typeface="Tahoma"/>
              </a:rPr>
              <a:t>CÓDIGO DE COMERCIO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2349000"/>
            <a:ext cx="754380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Se llevan los libros/registros obligatorios y los que integran el sistema (art. 44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Los libros/registros, obligatorios o no, se encuentran identificados por el Organismo de Contralor correspondiente (arts. 44 y 53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Es guardada la documentación de respaldo, en forma ordenada (art. 44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eaeaea"/>
                </a:solidFill>
                <a:latin typeface="Tahoma"/>
              </a:rPr>
              <a:t>FORMALIDADES</a:t>
            </a:r>
            <a:br>
              <a:rPr sz="4400"/>
            </a:br>
            <a:r>
              <a:rPr b="1" lang="es-AR" sz="4400" spc="-1" strike="noStrike">
                <a:solidFill>
                  <a:srgbClr val="eaeaea"/>
                </a:solidFill>
                <a:latin typeface="Tahoma"/>
              </a:rPr>
              <a:t>CODIGO DE COMERCIO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Las operaciones en el libro Diario, y de corresponder, en el subdiario Caja, se registran en forma cronológica, día por día (arts. 45, 46 y 54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Cada partida identifica quién es el deudor o acreedor (art. 45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Se conserva la documentación y los libros/registros, por el término legal correspondiente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eaeaea"/>
                </a:solidFill>
                <a:latin typeface="Tahoma"/>
              </a:rPr>
              <a:t>FORMALIDADES</a:t>
            </a:r>
            <a:br>
              <a:rPr sz="4400"/>
            </a:br>
            <a:r>
              <a:rPr b="1" lang="es-AR" sz="4400" spc="-1" strike="noStrike">
                <a:solidFill>
                  <a:srgbClr val="eaeaea"/>
                </a:solidFill>
                <a:latin typeface="Tahoma"/>
              </a:rPr>
              <a:t>CÓDIGO DE COMERCIO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Los libros/registros están (arts. 53 y 54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Encuadernados y foliado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Presentan mutila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Presentan blancos o huecos o interlinea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Presentan raspaduras o enmiendas o asientos tachad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Los asientos son legi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eaeaea"/>
                </a:solidFill>
                <a:latin typeface="Tahoma"/>
              </a:rPr>
              <a:t>FORMALIDADES</a:t>
            </a:r>
            <a:br>
              <a:rPr sz="4400"/>
            </a:br>
            <a:r>
              <a:rPr b="1" lang="es-AR" sz="4400" spc="-1" strike="noStrike">
                <a:solidFill>
                  <a:srgbClr val="eaeaea"/>
                </a:solidFill>
                <a:latin typeface="Tahoma"/>
              </a:rPr>
              <a:t>CODIGO DE COMERCIO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Libro de Inventarios y Balan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Está abierto con el capital inicial de la sociedad (art. 48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Los inventarios y balances, son transcriptos, dentro de los tres meses posteriores a su cierre (art. 48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Están firmados por persona alguna (art. 48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eaeaea"/>
                </a:solidFill>
                <a:latin typeface="Tahoma"/>
              </a:rPr>
              <a:t>FORMALIDADES</a:t>
            </a:r>
            <a:br>
              <a:rPr sz="4400"/>
            </a:br>
            <a:r>
              <a:rPr b="1" lang="es-AR" sz="4400" spc="-1" strike="noStrike">
                <a:solidFill>
                  <a:srgbClr val="eaeaea"/>
                </a:solidFill>
                <a:latin typeface="Tahoma"/>
              </a:rPr>
              <a:t>CODIGO DE COMERCIO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Libro de Inventarios y Balances (cont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d. Coinciden las partidas del asiento de cierre, de los estados contables, con el inventarios y los estados contables (art. 5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e. Se encuentran transcriptos la totalidad de los estados contables, sus anexos y sus anexos (art. 52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eaeaea"/>
                </a:solidFill>
                <a:latin typeface="Tahoma"/>
              </a:rPr>
              <a:t>FORMALIDADES</a:t>
            </a:r>
            <a:br>
              <a:rPr sz="4000"/>
            </a:br>
            <a:r>
              <a:rPr b="1" lang="es-AR" sz="4000" spc="-1" strike="noStrike">
                <a:solidFill>
                  <a:srgbClr val="eaeaea"/>
                </a:solidFill>
                <a:latin typeface="Tahoma"/>
              </a:rPr>
              <a:t>LEY 19.550  ACTUALIZADA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Datos a incluir en el activo y pasivo (art. 63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Datos a incluir en el del cuadro de resultados (art. 6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Datos a incluir como normas complementarias o anexos (art. 65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Datos a incluir en la memoria, cuando corresponda (art. 66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eaeaea"/>
                </a:solidFill>
                <a:latin typeface="Tahoma"/>
              </a:rPr>
              <a:t>FORMALIDADES</a:t>
            </a:r>
            <a:br>
              <a:rPr sz="4000"/>
            </a:br>
            <a:r>
              <a:rPr b="1" lang="es-AR" sz="4000" spc="-1" strike="noStrike">
                <a:solidFill>
                  <a:srgbClr val="eaeaea"/>
                </a:solidFill>
                <a:latin typeface="Tahoma"/>
              </a:rPr>
              <a:t>INSPECCIÓN GRAL DE JUSTICIA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RESOLUCION 07/200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Artículo 264.–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s sociedades por acciones y las de responsabilidad limitada cuyo capital alcance el importe fijado por el artículo 299, inciso 2º, de la Ley Nº 19.550, presentarán a la Inspección General de Justicia sus estados contables anuales o –cuando corresponda– por períodos intermedios – expresados en pes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eaeaea"/>
                </a:solidFill>
                <a:latin typeface="Tahoma"/>
              </a:rPr>
              <a:t>FORMALIDES</a:t>
            </a:r>
            <a:br>
              <a:rPr sz="4000"/>
            </a:br>
            <a:r>
              <a:rPr b="1" lang="es-AR" sz="4000" spc="-1" strike="noStrike">
                <a:solidFill>
                  <a:srgbClr val="eaeaea"/>
                </a:solidFill>
                <a:latin typeface="Tahoma"/>
              </a:rPr>
              <a:t>INSPECCIÓN GRAL DE JUSTICIA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RESOLUCIÓN 07/200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Artículo 265 – Datos a incluir como anex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Artículo 280 -  Sistema de Registración Contable pautas básic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Artículo 281 – Datos a incluir en el libro de Inventarios y Balan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eaeaea"/>
                </a:solidFill>
                <a:latin typeface="Tahoma"/>
              </a:rPr>
              <a:t>FORMALIDADES</a:t>
            </a:r>
            <a:br>
              <a:rPr sz="4000"/>
            </a:br>
            <a:r>
              <a:rPr b="1" lang="es-AR" sz="4000" spc="-1" strike="noStrike">
                <a:solidFill>
                  <a:srgbClr val="eaeaea"/>
                </a:solidFill>
                <a:latin typeface="Tahoma"/>
              </a:rPr>
              <a:t>INSPECCIÓN GRAL DE JUSTICIA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2530440"/>
            <a:ext cx="7543800" cy="35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RESOLUCIÓN 06/2006 - MEMO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Datos adicionales a los establecidos por el Código de Comercio, que deben figurar en la memoria de las sociedad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FORMALIDADES</a:t>
            </a:r>
            <a:br>
              <a:rPr sz="4400"/>
            </a:b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A.F.I.P. – RG 1415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CAPITULO B - SUJETOS QUE EFECTUEN REGISTRACIONES QUE LES PERMITAN CONFECCIONAR ESTADOS CONTA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Art. 37.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— Los sujetos que confeccionan estados contables, a partir de su sistema de registración, utilizarán los libros o medios que se encuentren autorizados por la Ley de Sociedades Comerciales y/o el Código de Comerci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NORMAS BASICA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3184200"/>
            <a:ext cx="7543800" cy="29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ÒDIGO DE COMERC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EY DE SOCIEDAD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INSPECCION GENERAL DE JUSTI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A.F.I.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OTROS EN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FORMALIDADES</a:t>
            </a:r>
            <a:br>
              <a:rPr sz="4400"/>
            </a:b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A.F.I.P. – RG 1415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CAPITULO C - SUJETOS QUE NO EFECTUEN REGISTRACIONES QUE LES PERMITAN CONFECCIONAR ESTADOS CONTA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Art. 38.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— En el caso de no efectuarse registraciones que permitan confeccionar estados contables, se utilizarán libros o registros que cumplan con las formalidades establecidas por el Código de Comercio, artículo 54, puntos 1, 2, 3, 4 y, en su caso, 5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FORMALIDADES</a:t>
            </a:r>
            <a:br>
              <a:rPr sz="4400"/>
            </a:b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A.F.I.P. – RG 1415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- Registración en forma manu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Art. 39.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— Cuando las registraciones se efectúen mediante métodos manuales, los libros o registros deberán estar encuadernados y foliad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e considera, también, como método manual, la modalidad de transcribir a libros copiadores la registración previamente efectuada en hojas móviles copiativ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eaeaea"/>
                </a:solidFill>
                <a:latin typeface="Tahoma"/>
              </a:rPr>
              <a:t>¿</a:t>
            </a:r>
            <a:r>
              <a:rPr b="0" lang="es-AR" sz="4000" spc="-1" strike="noStrike">
                <a:solidFill>
                  <a:srgbClr val="eaeaea"/>
                </a:solidFill>
                <a:latin typeface="Tahoma"/>
              </a:rPr>
              <a:t>Los libros/registros subdiarios deben estar identificados (rubricados)?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3119400"/>
            <a:ext cx="7543800" cy="29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Cada partida identifica quién es el deudor o acreedor (art. 45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Los libros/registros, obligatorios o no, se encuentran identificados por el Organismo de Contralor correspondiente (arts. 44 y 53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eaeaea"/>
                </a:solidFill>
                <a:latin typeface="Tahoma"/>
              </a:rPr>
              <a:t>¿Los libros IVA ventas / IVA Compras deben estar “rubricado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3315960"/>
            <a:ext cx="7543800" cy="27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Resolución AFIP 1.415, art. 38 y siguien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eaeaea"/>
                </a:solidFill>
                <a:latin typeface="Tahoma"/>
              </a:rPr>
              <a:t>¿Cuál es el atraso máximo, permitido, en transcribir a los libros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3382920"/>
            <a:ext cx="754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Código de Comerc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Los inventarios y balances, son transcriptos, dentro de los tres meses posteriores a su cierre (art. 48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eaeaea"/>
                </a:solidFill>
                <a:latin typeface="Tahoma"/>
              </a:rPr>
              <a:t>¿Pueden llevarse los libros “rubricados” en forma manual o en lápiz o en una hoja pegada?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3382920"/>
            <a:ext cx="754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transcribi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(Del lat. </a:t>
            </a: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transcribĕre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r. </a:t>
            </a:r>
            <a:r>
              <a:rPr b="0" lang="es-ES" sz="32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copiar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(‖ escribir en una parte lo escrito en otra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REAL ACADEMIA ESPAÑO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16282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¿LLEVADOS </a:t>
            </a: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EN LEGAL FORMA</a:t>
            </a: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 O </a:t>
            </a: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CONFORME A DERECHO?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128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¿LLEVADOS CONFORME A DERECHO?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3184200"/>
            <a:ext cx="7543800" cy="29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CTAMEN SOBR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PECTOS FORMALES 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PECTOS DE FON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¿LLEVADOS EN LEGAL FORMA?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3642840"/>
            <a:ext cx="754380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CTAME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BRE LOS ASPECTOS FORM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220500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SPECTOS FORMALES</a:t>
            </a:r>
            <a:br>
              <a:rPr sz="4400"/>
            </a:b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6126120"/>
            <a:ext cx="822960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eaeaea"/>
                </a:solidFill>
                <a:latin typeface="Tahoma"/>
              </a:rPr>
              <a:t>LA PREGUNT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670040" y="3119400"/>
            <a:ext cx="6270480" cy="29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ff"/>
                </a:solidFill>
                <a:latin typeface="Tahoma"/>
              </a:rPr>
              <a:t>¿ INFORME SI LOS LIBROS DE COMERCIO SON LLEVADOS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ff"/>
                </a:solidFill>
                <a:latin typeface="Tahoma"/>
              </a:rPr>
              <a:t>EN LEGAL FORMA 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eaeaea"/>
                </a:solidFill>
                <a:latin typeface="Tahoma"/>
              </a:rPr>
              <a:t>INFORM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2858760"/>
            <a:ext cx="7543800" cy="32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NO ES SÓLO DESCRIPCIÓN DEL ESTADO DE LIBR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A ELLO DEBE AGREGÁRSELE LA OPINIÓN SOBRE SI LOS LIBROS/REGISTROS CUMPLEN CON LAS FORMALIDADES LEG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s-AR" sz="4400" spc="-1" strike="noStrike">
                <a:solidFill>
                  <a:srgbClr val="eaeaea"/>
                </a:solidFill>
                <a:latin typeface="Tahoma"/>
              </a:rPr>
              <a:t>FORMALIDADES  </a:t>
            </a:r>
            <a:br>
              <a:rPr sz="4400"/>
            </a:br>
            <a:r>
              <a:rPr b="1" lang="es-AR" sz="4400" spc="-1" strike="noStrike">
                <a:solidFill>
                  <a:srgbClr val="eaeaea"/>
                </a:solidFill>
                <a:latin typeface="Tahoma"/>
              </a:rPr>
              <a:t>CODIGO DE COMERCIO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Contabilidad organizada e integrada (arts. 43 y 4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El sistema contable guarda relación con la importancia y naturaleza de las actividades (art. 4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Los registros contables están respaldados por su correspondiente documentación (art. 43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6T09:15:26Z</dcterms:created>
  <dc:creator>Bj</dc:creator>
  <dc:description/>
  <dc:language>en-US</dc:language>
  <cp:lastModifiedBy>CPCEACABA</cp:lastModifiedBy>
  <dcterms:modified xsi:type="dcterms:W3CDTF">2011-04-12T18:05:51Z</dcterms:modified>
  <cp:revision>28</cp:revision>
  <dc:subject/>
  <dc:title>LIBROS EN LEGAL FORMA</dc:title>
</cp:coreProperties>
</file>